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7FF52-B3CE-46C5-B746-297B48FEA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92F4B-3D5E-42D2-AECF-E05049E3C0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4A20E-C164-4B11-8282-A248AE9B6E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49FB8-62DF-4E9F-8F4A-FDD995C2B5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3672B-B404-4CF9-8269-42696237F6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3FE6A-6C69-45B3-9EC5-5FCB8C324F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DDDB1-9A1C-4D19-A467-49120F2359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142F9-E943-4A48-AE67-D7D6D620CC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0B59F-CF26-4860-91DE-7B4A390DF6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E81D1-B91A-44D0-8A88-CFCB8DB140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0EB6C-BD38-479A-B9D7-F89A2CCD6D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D3ADC-9E02-4826-B463-FA4AB12810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B66CD-67CE-4F5C-9E21-CA40DB9C56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B3DB1-94D4-41D4-BF27-265AF51B63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5F11A-8981-4EF5-8453-1850C4C9AA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BBE4A-F43D-43BB-899E-8505BABBE1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AAB04-68C3-45FD-B35F-5B1A4CE0BC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2FD37-F18C-4235-BAF9-D89DE8A517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6D012-1750-46AB-8DAD-FADD675D5A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4EC29-EEFA-4460-A8DD-FC7598F1CE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D5150-29A9-46E8-826F-8AACB81F9E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C4820-DAFD-490B-A48E-908F8B2A26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7D0-6479-472F-857D-B3AA9D17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45D-FD6E-479B-9C2E-B5BDE346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496-EDCD-4264-B5E1-8EE9BBDF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9DA-595F-4CA8-9C2C-9437C464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350-3189-4FE4-9F9C-A7F4CA75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922-9B0F-4EB4-BD5D-04C4C649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C7B-679B-4092-AB94-128774FE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B7B-B527-470F-8EB2-3530EE8B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10D-DDF5-4C2A-B0BE-D47A5116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8F4-5486-4CCD-A5C5-80DB84CD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037-835C-48D4-8EC9-88D97580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07E-273A-42FD-8F23-7A717CE3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29DAF-F5AC-454A-BCDB-AD121F6B62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980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8f8f8"/>
                </a:solidFill>
                <a:latin typeface="Trebuchet MS"/>
              </a:rPr>
              <a:t>OBOLJENJA </a:t>
            </a:r>
            <a:r>
              <a:rPr b="1" lang="sr-Latn-RS" sz="4800" spc="-1" strike="noStrike">
                <a:solidFill>
                  <a:srgbClr val="f8f8f8"/>
                </a:solidFill>
                <a:latin typeface="Trebuchet MS"/>
              </a:rPr>
              <a:t>GINGIVE I PARODONCIJUMA U DEC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4000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53920" y="1814040"/>
            <a:ext cx="54864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Gingivitis izazvan disanjem na ust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GINGIVITIS I LOŠE NAVIK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853920" y="1662120"/>
            <a:ext cx="5486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Fenitoin (antikonvulziv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Ciklosporin (imunosupresiv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Nifedipin (blokator kalcijuma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LEKOVI I GINGIVIT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53920" y="1814040"/>
            <a:ext cx="54864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Hemijske ulceracij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Termička oštećenj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Mehaničke povred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POVREDE GINGIV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53920" y="1814040"/>
            <a:ext cx="54864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Granulo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Fibro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Paruli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DRUGE PROMENE NA GINGIV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853920" y="1814040"/>
            <a:ext cx="54864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Javlja se kod 15% tinejdžer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Predisponirajući faktor za recesiju u području donjih sekutiča je visoko koronarno pripojen frenulu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Povrede prilikom pranja zub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Loša OH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Potiskivanje gingive nokto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RECESIJA GINGIV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111720" y="2271240"/>
            <a:ext cx="54864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Javljaju se kod mlečnih i stalnih zub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Posledično dovode do gubitka zuba u ranoj mlados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Rana dijagnostika od izuzetnog znača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Može biti lokalizovana ili generalizova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AGRESIVNI PERIODONTIT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53920" y="1814040"/>
            <a:ext cx="54864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Lokalizovani oblik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Generalizovani oblik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9a12a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PREPUBERTETSKI PERIODONTIT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53920" y="1814040"/>
            <a:ext cx="54864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Terapij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Pravilna i redovna O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Tretman parodontalnih džepova u L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U slučaju gubitka kosti EX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Metronidazol ili Amoxicilin 250mg 3x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Izrada mobilnih protez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9a12a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PREPUBERTETSKI PERIODONTIT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JUVENILNA PARODONTOPAT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53920" y="1738440"/>
            <a:ext cx="5486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Lokalizovani oblik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Javlja se kod zdravih osob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Zahvata molare i sekutiće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Najviše dva susedna zub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12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Generalizovani oblik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Takođe kod zdravi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Više od 14 zuba u oba zubna luk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Kod generalizovanog oblika prepubertetskog, može se ponovo javiti oko pubertet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JUVENILNA PARODONTOPAT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11720" y="1814040"/>
            <a:ext cx="54864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Izolovani patogen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sr-Latn-RS" sz="1700" spc="-1" strike="noStrike">
                <a:solidFill>
                  <a:srgbClr val="f8f8f8"/>
                </a:solidFill>
                <a:latin typeface="Trebuchet MS"/>
              </a:rPr>
              <a:t>Eikenella corrodens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sr-Latn-RS" sz="1700" spc="-1" strike="noStrike">
                <a:solidFill>
                  <a:srgbClr val="f8f8f8"/>
                </a:solidFill>
                <a:latin typeface="Trebuchet MS"/>
              </a:rPr>
              <a:t>Capnocytophag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sr-Latn-RS" sz="1700" spc="-1" strike="noStrike">
                <a:solidFill>
                  <a:srgbClr val="f8f8f8"/>
                </a:solidFill>
                <a:latin typeface="Trebuchet MS"/>
              </a:rPr>
              <a:t>Prevotella intermedi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45e44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sr-Latn-RS" sz="1600" spc="-1" strike="noStrike">
                <a:solidFill>
                  <a:srgbClr val="f45e44"/>
                </a:solidFill>
                <a:latin typeface="Trebuchet MS"/>
              </a:rPr>
              <a:t>Aggregatibacter actinomycetemcomitans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Terapij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Profesionalno uklanjanje mekih i čvrstih naslag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Tetraciklini 250mg 4x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Kombinacija Metronidazola 250mg i Amoxicilina 500mg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63"/>
              </a:spcBef>
              <a:buClr>
                <a:srgbClr val="f9a12a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502240" y="1814040"/>
            <a:ext cx="67816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600" spc="-1" strike="noStrike">
                <a:solidFill>
                  <a:srgbClr val="f9a12a"/>
                </a:solidFill>
                <a:latin typeface="Trebuchet MS"/>
              </a:rPr>
              <a:t>Zdrava gingiva je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Svetloružičaste boj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100" spc="-1" strike="noStrike">
                <a:solidFill>
                  <a:srgbClr val="f8f8f8"/>
                </a:solidFill>
                <a:latin typeface="Trebuchet MS"/>
              </a:rPr>
              <a:t>Neravne sitne zrnaste struktur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100" spc="-1" strike="noStrike">
                <a:solidFill>
                  <a:srgbClr val="f8f8f8"/>
                </a:solidFill>
                <a:latin typeface="Trebuchet MS"/>
              </a:rPr>
              <a:t>Čvrst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6923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KARAKTERISTIKE ZDRAVIH TKIV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853920" y="1662120"/>
            <a:ext cx="106682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D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45e44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45e44"/>
                </a:solidFill>
                <a:latin typeface="Trebuchet MS"/>
              </a:rPr>
              <a:t>Merenje dubine parodontalnog džepa i nivoa pripojnog epitela ili gubitka alveolarne kosti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HRONIČNI PERIODONTIT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16923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PERIODONTITISI I SISTEMSKE BOLEST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797520" y="1814040"/>
            <a:ext cx="54864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Genetski poremećaj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Downov sindrom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Dijabetes melitus Tip-1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Papilom-Leferve sindrom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Ehlers-Danlosov sindrom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Hipofosfatazija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Hematološki poremećaj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Infantilna genetska agranulocitoz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Neutropenij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Deficit adhezije leukocit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063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8f8f8"/>
                </a:solidFill>
                <a:latin typeface="Trebuchet MS"/>
              </a:rPr>
              <a:t>Histiocitoza X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063"/>
              </a:spcBef>
              <a:buClr>
                <a:srgbClr val="f45e44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45e44"/>
                </a:solidFill>
                <a:latin typeface="Trebuchet MS"/>
              </a:rPr>
              <a:t>Akatalazij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063"/>
              </a:spcBef>
              <a:buClr>
                <a:srgbClr val="f45e44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700" spc="-1" strike="noStrike">
                <a:solidFill>
                  <a:srgbClr val="f45e44"/>
                </a:solidFill>
                <a:latin typeface="Trebuchet MS"/>
              </a:rPr>
              <a:t>Aplastična anemij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063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063"/>
              </a:spcBef>
              <a:buClr>
                <a:srgbClr val="f9a12a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883120" y="1833120"/>
            <a:ext cx="64008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Podela stanja gingiv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Gingivitis uzrokovan plak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Akutni gingivit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Gingivalne lezije koje nisu uzrokovane plak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Mukogingivalne anomalije gingiv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Hronični periodontit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Agresivni periodontit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Periodontitis kao manifestacija sistemskih bolest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Nektotizirajući ulcerozni periodontit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692360" y="51912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DIJAGNOZA I KLASIFIKA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53560" y="1814040"/>
            <a:ext cx="579132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Od kliničkih znakova javljaju se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Crvenil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Ede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Krvarenj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Povećana osetljivost i hiperplazija ging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GINGIVITIS UZROKOVAN PLAKOM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53560" y="1814040"/>
            <a:ext cx="579132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Mikroorganizmi plak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Prve bakterije su gram + koke u plaku starom 4-7 dana (ne dovode do promena na gingivi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Nakon dve nedelje veće prisustvo gram negativnih bakterija filamentoznih ili fuziformnih oblika (</a:t>
            </a:r>
            <a:r>
              <a:rPr b="1" i="1" lang="sr-Latn-RS" sz="1600" spc="-1" strike="noStrike">
                <a:solidFill>
                  <a:srgbClr val="ffffff"/>
                </a:solidFill>
                <a:latin typeface="Trebuchet MS"/>
              </a:rPr>
              <a:t>Porhnyromonas, Spirochaete, Selenomonas, Leptotrichia</a:t>
            </a: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GINGIVITIS UZROKOVAN PLAKOM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959080" y="1909800"/>
            <a:ext cx="579132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9320" indent="-22932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Do polaska u školu preporučuje se da roditelj pere zube detetu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9320" indent="-22932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Izbor odgovarajuće četkice za zub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9320" indent="-229320">
              <a:lnSpc>
                <a:spcPct val="90000"/>
              </a:lnSpc>
              <a:spcBef>
                <a:spcPts val="1749"/>
              </a:spcBef>
              <a:buClr>
                <a:srgbClr val="99cc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99cc00"/>
                </a:solidFill>
                <a:latin typeface="Trebuchet MS"/>
              </a:rPr>
              <a:t>Primena električne četkice za zub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9320" indent="-229320">
              <a:lnSpc>
                <a:spcPct val="90000"/>
              </a:lnSpc>
              <a:spcBef>
                <a:spcPts val="1749"/>
              </a:spcBef>
              <a:buClr>
                <a:srgbClr val="f45e44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45e44"/>
                </a:solidFill>
                <a:latin typeface="Trebuchet MS"/>
              </a:rPr>
              <a:t>Hemijska kontrola plaka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9320" indent="-229320">
              <a:lnSpc>
                <a:spcPct val="90000"/>
              </a:lnSpc>
              <a:spcBef>
                <a:spcPts val="1749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8f8f8"/>
                </a:solidFill>
                <a:latin typeface="Trebuchet MS"/>
              </a:rPr>
              <a:t>Profesionalno uklanjanje mekih i tvrdih naslag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9320" indent="-229320">
              <a:lnSpc>
                <a:spcPct val="90000"/>
              </a:lnSpc>
              <a:spcBef>
                <a:spcPts val="1749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ORALNA HIGIJEN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53560" y="1814040"/>
            <a:ext cx="579132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Predisponirajući faktori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Loša oralna higije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Već prisutan gingiviti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Sistemske bolest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Imunosupresij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Pothranjenost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Stres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Hronični pušač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AKUTNI ULCERONEKROZN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53560" y="1814040"/>
            <a:ext cx="579132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Hereditarna gingivalna fibromatoz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476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Celijakij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47628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GINGIVITIS I GENETSKI POREMEĆAJ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53920" y="1814040"/>
            <a:ext cx="54864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Hematološke bolest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Imunološka stanj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6160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GINGIVITIS I SISTEMSKE BOLEST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6:55:23Z</dcterms:modified>
  <cp:revision>1084</cp:revision>
  <dc:subject/>
  <dc:title>RTG U DEČJOJ STOMATOLOGIJI</dc:title>
</cp:coreProperties>
</file>